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4FB6-FA70-4F42-B978-F7AD84E79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B426-4FD3-4D36-9257-6FC555E6C4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5B39-D443-4EF7-9F59-2977F4840F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314F-E34B-4EFF-9BD9-48C5492CC2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AF6F-4482-4D92-997C-F6D045FC86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C702-5802-472A-BA87-3D6BC0FE9A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08EE-3BD3-4C7B-B553-539D4369EC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59ED-5A80-4ADC-B129-28C9B14D99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9D64-1F47-40A9-844F-40AE739589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0012-45E9-4067-99AC-3217C3A682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3625-8F9D-488F-8EC4-5A5DCEF695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C2F5-2C2A-4E2C-B5DF-C5F84FBC60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F285-6DA1-4B50-92AF-A4582C9A52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8AD3-7356-4808-8C9E-7FE592F8D5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D6D1-E456-4DBC-A13D-561E25C4DC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5843-041A-49DF-BFE0-434D3039E3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0258-B7AD-471E-81C5-A69C9534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1FB-65AC-4A74-8CEB-E41F9ED1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A0E-62A4-489E-A0F1-3F0B030A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A6FA-F3B7-4C58-A722-7F271BB7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51A0-09E1-4A7B-87C8-4214D529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E775-1957-4030-A95F-2567E9CE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5443-FFCB-4D33-B17B-3DCD0A99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F8E0-79A1-456B-A5EE-82945BE1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7BA5-3046-4FA3-BA3D-C989A84B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1A9B-5486-4FF7-BBED-9F448EFD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43DD-6462-4F2E-BA8F-2C081675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D0A1-CD12-44B3-A6E1-7FD45DE2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3EED-DE6B-4B82-96B9-5A284574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645E-36B7-4BE6-B016-DD88F391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862A-760C-4E7B-9394-EB70EADD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31B4-689E-4E3E-839D-C2F2F263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7B79-5624-42E6-8883-105E5CAC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C00-04C2-4EB1-B5AF-FB1B2116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AC69-2538-4A8B-8AFD-823EE44C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2ECB-6FB1-425D-B677-C6D56978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53B0-3F33-4F02-88E5-D119C010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9D3-56D7-4999-981B-1B3F5D18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3607-55D2-46A7-A643-213EF9AF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4BB-B8A8-4287-8785-6B3158B0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797440"/>
            <a:ext cx="9167760" cy="1076400"/>
            <a:chOff x="0" y="5797440"/>
            <a:chExt cx="9167760" cy="1076400"/>
          </a:xfrm>
        </p:grpSpPr>
        <p:sp>
          <p:nvSpPr>
            <p:cNvPr id="1" name="Rectangle 3"/>
            <p:cNvSpPr/>
            <p:nvPr/>
          </p:nvSpPr>
          <p:spPr>
            <a:xfrm>
              <a:off x="0" y="5835600"/>
              <a:ext cx="9166320" cy="1020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5797440"/>
              <a:ext cx="9167760" cy="1076400"/>
              <a:chOff x="0" y="5797440"/>
              <a:chExt cx="9167760" cy="107640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0" y="5797440"/>
                <a:ext cx="919080" cy="1076400"/>
              </a:xfrm>
              <a:custGeom>
                <a:avLst/>
                <a:gdLst>
                  <a:gd name="textAreaLeft" fmla="*/ 0 w 919080"/>
                  <a:gd name="textAreaRight" fmla="*/ 919440 w 91908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689040" y="5797440"/>
                <a:ext cx="919080" cy="1076400"/>
              </a:xfrm>
              <a:custGeom>
                <a:avLst/>
                <a:gdLst>
                  <a:gd name="textAreaLeft" fmla="*/ 0 w 919080"/>
                  <a:gd name="textAreaRight" fmla="*/ 919440 w 91908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1395360" y="5797440"/>
                <a:ext cx="920880" cy="1076400"/>
              </a:xfrm>
              <a:custGeom>
                <a:avLst/>
                <a:gdLst>
                  <a:gd name="textAreaLeft" fmla="*/ 0 w 920880"/>
                  <a:gd name="textAreaRight" fmla="*/ 921240 w 92088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80" h="678">
                    <a:moveTo>
                      <a:pt x="0" y="677"/>
                    </a:moveTo>
                    <a:lnTo>
                      <a:pt x="482" y="0"/>
                    </a:lnTo>
                    <a:lnTo>
                      <a:pt x="579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103480" y="5797440"/>
                <a:ext cx="919080" cy="1076400"/>
              </a:xfrm>
              <a:custGeom>
                <a:avLst/>
                <a:gdLst>
                  <a:gd name="textAreaLeft" fmla="*/ 0 w 919080"/>
                  <a:gd name="textAreaRight" fmla="*/ 919440 w 91908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811600" y="5797440"/>
                <a:ext cx="919080" cy="1076400"/>
              </a:xfrm>
              <a:custGeom>
                <a:avLst/>
                <a:gdLst>
                  <a:gd name="textAreaLeft" fmla="*/ 0 w 919080"/>
                  <a:gd name="textAreaRight" fmla="*/ 919440 w 91908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517920" y="5797440"/>
                <a:ext cx="920880" cy="1076400"/>
              </a:xfrm>
              <a:custGeom>
                <a:avLst/>
                <a:gdLst>
                  <a:gd name="textAreaLeft" fmla="*/ 0 w 920880"/>
                  <a:gd name="textAreaRight" fmla="*/ 921240 w 92088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80" h="678">
                    <a:moveTo>
                      <a:pt x="0" y="677"/>
                    </a:moveTo>
                    <a:lnTo>
                      <a:pt x="482" y="0"/>
                    </a:lnTo>
                    <a:lnTo>
                      <a:pt x="579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206960" y="5797440"/>
                <a:ext cx="919080" cy="1076400"/>
              </a:xfrm>
              <a:custGeom>
                <a:avLst/>
                <a:gdLst>
                  <a:gd name="textAreaLeft" fmla="*/ 0 w 919080"/>
                  <a:gd name="textAreaRight" fmla="*/ 919440 w 91908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4915080" y="5797440"/>
                <a:ext cx="919080" cy="1076400"/>
              </a:xfrm>
              <a:custGeom>
                <a:avLst/>
                <a:gdLst>
                  <a:gd name="textAreaLeft" fmla="*/ 0 w 919080"/>
                  <a:gd name="textAreaRight" fmla="*/ 919440 w 91908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41920" y="5797440"/>
                <a:ext cx="919080" cy="1076400"/>
              </a:xfrm>
              <a:custGeom>
                <a:avLst/>
                <a:gdLst>
                  <a:gd name="textAreaLeft" fmla="*/ 0 w 919080"/>
                  <a:gd name="textAreaRight" fmla="*/ 919440 w 91908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6367320" y="5797440"/>
                <a:ext cx="919440" cy="107640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113600" y="5797440"/>
                <a:ext cx="919080" cy="1076400"/>
              </a:xfrm>
              <a:custGeom>
                <a:avLst/>
                <a:gdLst>
                  <a:gd name="textAreaLeft" fmla="*/ 0 w 919080"/>
                  <a:gd name="textAreaRight" fmla="*/ 919440 w 91908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840800" y="5797440"/>
                <a:ext cx="919080" cy="1076400"/>
              </a:xfrm>
              <a:custGeom>
                <a:avLst/>
                <a:gdLst>
                  <a:gd name="textAreaLeft" fmla="*/ 0 w 919080"/>
                  <a:gd name="textAreaRight" fmla="*/ 919440 w 91908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8593200" y="6072120"/>
                <a:ext cx="574560" cy="801720"/>
              </a:xfrm>
              <a:custGeom>
                <a:avLst/>
                <a:gdLst>
                  <a:gd name="textAreaLeft" fmla="*/ 0 w 574560"/>
                  <a:gd name="textAreaRight" fmla="*/ 574920 w 574560"/>
                  <a:gd name="textAreaTop" fmla="*/ 0 h 801720"/>
                  <a:gd name="textAreaBottom" fmla="*/ 802080 h 801720"/>
                </a:gdLst>
                <a:ahLst/>
                <a:rect l="textAreaLeft" t="textAreaTop" r="textAreaRight" b="textAreaBottom"/>
                <a:pathLst>
                  <a:path w="362" h="505">
                    <a:moveTo>
                      <a:pt x="0" y="504"/>
                    </a:moveTo>
                    <a:lnTo>
                      <a:pt x="361" y="0"/>
                    </a:lnTo>
                    <a:lnTo>
                      <a:pt x="361" y="122"/>
                    </a:lnTo>
                    <a:lnTo>
                      <a:pt x="96" y="504"/>
                    </a:lnTo>
                    <a:lnTo>
                      <a:pt x="0" y="504"/>
                    </a:lnTo>
                  </a:path>
                </a:pathLst>
              </a:cu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5567-2BAA-40B3-8B26-9E0AC4B4FF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760840"/>
            <a:ext cx="9151920" cy="4113000"/>
            <a:chOff x="0" y="2760840"/>
            <a:chExt cx="9151920" cy="4113000"/>
          </a:xfrm>
        </p:grpSpPr>
        <p:grpSp>
          <p:nvGrpSpPr>
            <p:cNvPr id="58" name="Group 3"/>
            <p:cNvGrpSpPr/>
            <p:nvPr/>
          </p:nvGrpSpPr>
          <p:grpSpPr>
            <a:xfrm>
              <a:off x="0" y="5797440"/>
              <a:ext cx="9151920" cy="1076400"/>
              <a:chOff x="0" y="5797440"/>
              <a:chExt cx="9151920" cy="1076400"/>
            </a:xfrm>
          </p:grpSpPr>
          <p:sp>
            <p:nvSpPr>
              <p:cNvPr id="59" name="Rectangle 4"/>
              <p:cNvSpPr/>
              <p:nvPr/>
            </p:nvSpPr>
            <p:spPr>
              <a:xfrm>
                <a:off x="0" y="5835600"/>
                <a:ext cx="9150480" cy="10209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5"/>
              <p:cNvGrpSpPr/>
              <p:nvPr/>
            </p:nvGrpSpPr>
            <p:grpSpPr>
              <a:xfrm>
                <a:off x="0" y="5797440"/>
                <a:ext cx="9151920" cy="1076400"/>
                <a:chOff x="0" y="5797440"/>
                <a:chExt cx="9151920" cy="1076400"/>
              </a:xfrm>
            </p:grpSpPr>
            <p:sp>
              <p:nvSpPr>
                <p:cNvPr id="61" name="Freeform 6"/>
                <p:cNvSpPr/>
                <p:nvPr/>
              </p:nvSpPr>
              <p:spPr>
                <a:xfrm>
                  <a:off x="0" y="5797440"/>
                  <a:ext cx="917640" cy="107640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7"/>
                <p:cNvSpPr/>
                <p:nvPr/>
              </p:nvSpPr>
              <p:spPr>
                <a:xfrm>
                  <a:off x="687240" y="5797440"/>
                  <a:ext cx="917640" cy="107640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8"/>
                <p:cNvSpPr/>
                <p:nvPr/>
              </p:nvSpPr>
              <p:spPr>
                <a:xfrm>
                  <a:off x="1393920" y="5797440"/>
                  <a:ext cx="917640" cy="107640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Freeform 9"/>
                <p:cNvSpPr/>
                <p:nvPr/>
              </p:nvSpPr>
              <p:spPr>
                <a:xfrm>
                  <a:off x="2100240" y="5797440"/>
                  <a:ext cx="917640" cy="107640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0"/>
                <p:cNvSpPr/>
                <p:nvPr/>
              </p:nvSpPr>
              <p:spPr>
                <a:xfrm>
                  <a:off x="2806560" y="5797440"/>
                  <a:ext cx="917640" cy="107640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Freeform 11"/>
                <p:cNvSpPr/>
                <p:nvPr/>
              </p:nvSpPr>
              <p:spPr>
                <a:xfrm>
                  <a:off x="3513240" y="5797440"/>
                  <a:ext cx="917640" cy="107640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Freeform 12"/>
                <p:cNvSpPr/>
                <p:nvPr/>
              </p:nvSpPr>
              <p:spPr>
                <a:xfrm>
                  <a:off x="4200480" y="5797440"/>
                  <a:ext cx="917640" cy="107640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3"/>
                <p:cNvSpPr/>
                <p:nvPr/>
              </p:nvSpPr>
              <p:spPr>
                <a:xfrm>
                  <a:off x="4905360" y="5797440"/>
                  <a:ext cx="919080" cy="1076400"/>
                </a:xfrm>
                <a:custGeom>
                  <a:avLst/>
                  <a:gdLst>
                    <a:gd name="textAreaLeft" fmla="*/ 0 w 919080"/>
                    <a:gd name="textAreaRight" fmla="*/ 919440 w 91908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4"/>
                <p:cNvSpPr/>
                <p:nvPr/>
              </p:nvSpPr>
              <p:spPr>
                <a:xfrm>
                  <a:off x="5630760" y="5797440"/>
                  <a:ext cx="919440" cy="1076400"/>
                </a:xfrm>
                <a:custGeom>
                  <a:avLst/>
                  <a:gdLst>
                    <a:gd name="textAreaLeft" fmla="*/ 0 w 919440"/>
                    <a:gd name="textAreaRight" fmla="*/ 919800 w 91944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356520" y="5797440"/>
                  <a:ext cx="919080" cy="1076400"/>
                </a:xfrm>
                <a:custGeom>
                  <a:avLst/>
                  <a:gdLst>
                    <a:gd name="textAreaLeft" fmla="*/ 0 w 919080"/>
                    <a:gd name="textAreaRight" fmla="*/ 919440 w 91908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16"/>
                <p:cNvSpPr/>
                <p:nvPr/>
              </p:nvSpPr>
              <p:spPr>
                <a:xfrm>
                  <a:off x="7101000" y="5797440"/>
                  <a:ext cx="919080" cy="1076400"/>
                </a:xfrm>
                <a:custGeom>
                  <a:avLst/>
                  <a:gdLst>
                    <a:gd name="textAreaLeft" fmla="*/ 0 w 919080"/>
                    <a:gd name="textAreaRight" fmla="*/ 919440 w 91908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17"/>
                <p:cNvSpPr/>
                <p:nvPr/>
              </p:nvSpPr>
              <p:spPr>
                <a:xfrm>
                  <a:off x="7826400" y="5797440"/>
                  <a:ext cx="917640" cy="107640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18"/>
                <p:cNvSpPr/>
                <p:nvPr/>
              </p:nvSpPr>
              <p:spPr>
                <a:xfrm>
                  <a:off x="8577360" y="6072120"/>
                  <a:ext cx="574560" cy="801720"/>
                </a:xfrm>
                <a:custGeom>
                  <a:avLst/>
                  <a:gdLst>
                    <a:gd name="textAreaLeft" fmla="*/ 0 w 574560"/>
                    <a:gd name="textAreaRight" fmla="*/ 574920 w 574560"/>
                    <a:gd name="textAreaTop" fmla="*/ 0 h 801720"/>
                    <a:gd name="textAreaBottom" fmla="*/ 802080 h 801720"/>
                  </a:gdLst>
                  <a:ahLst/>
                  <a:rect l="textAreaLeft" t="textAreaTop" r="textAreaRight" b="textAreaBottom"/>
                  <a:pathLst>
                    <a:path w="362" h="505">
                      <a:moveTo>
                        <a:pt x="0" y="504"/>
                      </a:moveTo>
                      <a:lnTo>
                        <a:pt x="361" y="0"/>
                      </a:lnTo>
                      <a:lnTo>
                        <a:pt x="361" y="122"/>
                      </a:lnTo>
                      <a:lnTo>
                        <a:pt x="96" y="504"/>
                      </a:lnTo>
                      <a:lnTo>
                        <a:pt x="0" y="504"/>
                      </a:ln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" name="Freeform 19"/>
            <p:cNvSpPr/>
            <p:nvPr/>
          </p:nvSpPr>
          <p:spPr>
            <a:xfrm>
              <a:off x="0" y="2760840"/>
              <a:ext cx="819000" cy="144936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516" h="913">
                  <a:moveTo>
                    <a:pt x="0" y="0"/>
                  </a:moveTo>
                  <a:lnTo>
                    <a:pt x="515" y="0"/>
                  </a:ln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F218-F6CC-4A87-9CAC-400D2C2EDE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tomic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ss number:  the number of protons and neutrons in the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:  hydrogen can have a mass of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nce it has 1 proton it must have 0 neu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# of neutrons = mass # - atomic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do we know the number of subatomic particles in an atom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rmining the number of protons and neutr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 has a mass number of 7 and an atomic number of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tons = 3 (same as atomic #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utrons= 7-3 = 4 (mass # - atomic #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 has a mass number of 20 and an atomic number of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tons =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utrons = 20 - 10=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 about the electro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lectrons are equal to the 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p = atomic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:  He has a mass # of 4 and an atomic # of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p+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8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8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8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8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rmine the number of subatomic particles in the following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84872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 has a mass # of 35 and an atomic # of 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 has a mass # of 39 and an atomic # of 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8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8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8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8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exactly are the particles arranged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the at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viewers think this could lead to misconcepti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4267080" y="3581280"/>
            <a:ext cx="609840" cy="6098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3886200" y="320040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3657600" y="2971800"/>
            <a:ext cx="1828800" cy="1828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3429000" y="2743200"/>
            <a:ext cx="2286000" cy="228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3200400" y="2514600"/>
            <a:ext cx="2743200" cy="2743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9"/>
          <p:cNvSpPr/>
          <p:nvPr/>
        </p:nvSpPr>
        <p:spPr>
          <a:xfrm flipH="1">
            <a:off x="4723920" y="2971800"/>
            <a:ext cx="16765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6553080" y="2362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ll of the protons and the neutr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4495680" y="4419720"/>
            <a:ext cx="1526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12"/>
          <p:cNvSpPr/>
          <p:nvPr/>
        </p:nvSpPr>
        <p:spPr>
          <a:xfrm>
            <a:off x="4495680" y="3048120"/>
            <a:ext cx="1526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4876920" y="45720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Oval 14"/>
          <p:cNvSpPr/>
          <p:nvPr/>
        </p:nvSpPr>
        <p:spPr>
          <a:xfrm>
            <a:off x="5334120" y="34290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15"/>
          <p:cNvSpPr/>
          <p:nvPr/>
        </p:nvSpPr>
        <p:spPr>
          <a:xfrm>
            <a:off x="4876920" y="29718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4114800" y="45720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Oval 17"/>
          <p:cNvSpPr/>
          <p:nvPr/>
        </p:nvSpPr>
        <p:spPr>
          <a:xfrm>
            <a:off x="3733920" y="327672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Oval 18"/>
          <p:cNvSpPr/>
          <p:nvPr/>
        </p:nvSpPr>
        <p:spPr>
          <a:xfrm>
            <a:off x="4191120" y="289548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19"/>
          <p:cNvSpPr/>
          <p:nvPr/>
        </p:nvSpPr>
        <p:spPr>
          <a:xfrm>
            <a:off x="5334120" y="419112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Oval 20"/>
          <p:cNvSpPr/>
          <p:nvPr/>
        </p:nvSpPr>
        <p:spPr>
          <a:xfrm>
            <a:off x="3657600" y="41148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6553080" y="3962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can hold up to 2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22"/>
          <p:cNvSpPr/>
          <p:nvPr/>
        </p:nvSpPr>
        <p:spPr>
          <a:xfrm flipH="1" flipV="1">
            <a:off x="5257800" y="3885840"/>
            <a:ext cx="1295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6172200" y="4724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can hold up to 8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24"/>
          <p:cNvSpPr/>
          <p:nvPr/>
        </p:nvSpPr>
        <p:spPr>
          <a:xfrm flipH="1" flipV="1">
            <a:off x="5257800" y="441936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26"/>
          <p:cNvSpPr/>
          <p:nvPr/>
        </p:nvSpPr>
        <p:spPr>
          <a:xfrm>
            <a:off x="2514600" y="3733920"/>
            <a:ext cx="9144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066680" y="33526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can hold up to 18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1447920" y="434340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and any after can hold up to 32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29"/>
          <p:cNvSpPr/>
          <p:nvPr/>
        </p:nvSpPr>
        <p:spPr>
          <a:xfrm flipV="1">
            <a:off x="2819520" y="4647960"/>
            <a:ext cx="6094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 does carbon look lik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ss # = 12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ic # =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6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4572000" y="35053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3733920" y="2590920"/>
            <a:ext cx="1981080" cy="2057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4114800" y="2971800"/>
            <a:ext cx="1219320" cy="1295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6553080" y="2819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6 p and 6 n live in the nucle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 flipH="1">
            <a:off x="4876920" y="3124080"/>
            <a:ext cx="1676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4114800" y="32004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5105520" y="39625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4648320" y="25146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4648320" y="45720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3657600" y="36576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Oval 14"/>
          <p:cNvSpPr/>
          <p:nvPr/>
        </p:nvSpPr>
        <p:spPr>
          <a:xfrm>
            <a:off x="5562720" y="36576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 is an atom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:  the smallest unit of matter that retains the identity of the sub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rst proposed by Democrit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tomic The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l Matter is composed of 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oms are the building blocks of ma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s of a given element are identic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 elements of the same (neutral) element have the same number of protons and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s of different elements combine in simple whole-number ratios to form chemical comp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ways atoms combine to form compounds is determined by the valence electrons of an e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tomic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s are composed of 2 reg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ucleus:  the center of the atom that contains the mass of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ectron cloud:  region that surrounds the nucleus that contains most of the space in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4800600" y="4267080"/>
            <a:ext cx="1447920" cy="1447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 flipV="1">
            <a:off x="5638680" y="4800240"/>
            <a:ext cx="9907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4038120" y="4952880"/>
            <a:ext cx="8384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629400" y="441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743200" y="46483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o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’s in the Nucle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nucleus contains 2 of the 3 subatomic partic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tons:  positively charged subatomic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utrons:  neutrally charged subatomic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at’s in the Electron Cloud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subatomic particle resides outside of the nucleus in the electron c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ectron:  the subatomic particle with a negative charge and relatively no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do these particles interact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otons and neutrons live compacted in the tiny positively charged nucleus accounting for most of the mass of the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negatively charged electrons are small and have a relatively small mass but occupy a large volume of space outside the nucle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do the subatomic particles balance each other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an at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protons = th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20 protons are present in an atom then 20 electrons are there to balance the overall charge of the atom—atoms are neut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neutrons have no charge; therefore they do not have to equal the number of protons or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do we know the number of subatomic particles in an atom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omic number:  this number indicates the number of protons in an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:  Hydrogen’s atomic number is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 hydrogen has 1 pr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:  Carbon’s atomic number is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 carbon has 6 prot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**The number of protons identifies the at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.  2 protons = He, 29 protons = C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3:16:44Z</dcterms:created>
  <dc:creator>jcameron</dc:creator>
  <dc:description/>
  <dc:language>en-US</dc:language>
  <cp:lastModifiedBy>Administrator</cp:lastModifiedBy>
  <dcterms:modified xsi:type="dcterms:W3CDTF">2014-05-21T18:36:16Z</dcterms:modified>
  <cp:revision>23</cp:revision>
  <dc:subject/>
  <dc:title>Atomic Structure</dc:title>
</cp:coreProperties>
</file>